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A2B3-49E3-4CB0-8036-0F7AC60B4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144E-DEA9-4E95-A672-522187FE1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8961-06FC-4440-B59F-A0920468F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8B49-C2C6-4AFE-AC1E-79133C516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21A16-8C05-4586-A336-4E25678B4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05D15-EC3C-4185-9338-DA7578691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C92A9-C35D-4F4B-988E-681DC1C35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2E80B-D24C-4472-8ACF-8B533FC7C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E9AF0-F8BB-4929-BD5C-37FE168E7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49000" y="107640"/>
            <a:ext cx="804204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66416-0979-44EE-AE69-22D77224B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C7023-1204-498D-9989-B2395A4CD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FC8A-A718-40A4-A2BD-938836B37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912A9-33AB-4274-8B51-67DC479C7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FE4A9-6F34-45C8-8A23-1E387D9EF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D2163-E3E9-4E51-81C0-C2966E3E6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95D72-A32E-498C-8478-8C63A1CE4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CB65A-44D5-47A3-84F3-04D2A26A7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E968-EA5F-43F2-8747-9573E9467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AF33-6B1E-40EB-908B-C5F29C88F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A76C-0F62-4751-A8B9-A860884FA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000" y="107640"/>
            <a:ext cx="804204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858D-4194-4F9F-9FF7-235DE7A41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8775-C708-4375-8C31-6B74712C3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FCA3-92EA-4F61-8C64-7D8665B04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9777-7954-49D4-995D-6B76A7BDA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4" marL="15462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5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6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657540-59F4-4A00-BB6C-CC6CCDAD91B5}" type="datetime">
              <a:rPr b="0" lang="en-US" sz="1200" spc="-1" strike="noStrike">
                <a:solidFill>
                  <a:srgbClr val="ffffff"/>
                </a:solidFill>
                <a:latin typeface="News Gothic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23B8AA-457C-46DF-BE7B-76C55E6ACBF4}" type="slidenum">
              <a:rPr b="0" lang="en-US" sz="3600" spc="-1" strike="noStrike">
                <a:solidFill>
                  <a:srgbClr val="ffffff"/>
                </a:solidFill>
                <a:latin typeface="News Gothic MT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1328760" y="1295280"/>
            <a:ext cx="6486480" cy="31528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4" marL="15462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5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6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469428-293C-4BDD-829A-CA72855B664C}" type="datetime">
              <a:rPr b="0" lang="en-US" sz="1200" spc="-1" strike="noStrike">
                <a:solidFill>
                  <a:srgbClr val="ffffff"/>
                </a:solidFill>
                <a:latin typeface="News Gothic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DBC22A-623B-4FE7-BEE7-CF319226FA6A}" type="slidenum">
              <a:rPr b="0" lang="en-US" sz="3600" spc="-1" strike="noStrike">
                <a:solidFill>
                  <a:srgbClr val="ffffff"/>
                </a:solidFill>
                <a:latin typeface="News Gothic MT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22280" y="1523880"/>
            <a:ext cx="6499440" cy="1725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News Gothic MT"/>
              </a:rPr>
              <a:t> </a:t>
            </a:r>
            <a:r>
              <a:rPr b="0" lang="en-US" sz="4600" spc="-1" strike="noStrike">
                <a:solidFill>
                  <a:srgbClr val="000000"/>
                </a:solidFill>
                <a:latin typeface="News Gothic MT"/>
              </a:rPr>
              <a:t>Be Safe On The Interne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22280" y="3298320"/>
            <a:ext cx="6499440" cy="91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ews Gothic MT"/>
              </a:rPr>
              <a:t>For Student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ews Gothic MT"/>
              </a:rPr>
              <a:t>By Richard LaBrecque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pic>
        <p:nvPicPr>
          <p:cNvPr id="85" name="Picture 3" descr=""/>
          <p:cNvPicPr/>
          <p:nvPr/>
        </p:nvPicPr>
        <p:blipFill>
          <a:blip r:embed="rId2"/>
          <a:stretch/>
        </p:blipFill>
        <p:spPr>
          <a:xfrm>
            <a:off x="6286680" y="3249720"/>
            <a:ext cx="2857320" cy="2857320"/>
          </a:xfrm>
          <a:prstGeom prst="rect">
            <a:avLst/>
          </a:prstGeom>
          <a:ln w="0">
            <a:noFill/>
          </a:ln>
        </p:spPr>
      </p:pic>
      <p:sp>
        <p:nvSpPr>
          <p:cNvPr id="86" name="TextBox 4"/>
          <p:cNvSpPr/>
          <p:nvPr/>
        </p:nvSpPr>
        <p:spPr>
          <a:xfrm>
            <a:off x="4873320" y="6418440"/>
            <a:ext cx="388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ews Gothic MT"/>
              </a:rPr>
              <a:t>Piccomputers/idaschools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News Gothic MT"/>
              </a:rPr>
              <a:t>Cyberbullying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Don’t Be Mean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News Gothic MT"/>
              </a:rPr>
              <a:t>Ignore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-mean or threatening messages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News Gothic MT"/>
              </a:rPr>
              <a:t>Block-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e sender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News Gothic MT"/>
              </a:rPr>
              <a:t>Tell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-a trusted adult who can help you report them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pic>
        <p:nvPicPr>
          <p:cNvPr id="89" name="Picture 3" descr=""/>
          <p:cNvPicPr/>
          <p:nvPr/>
        </p:nvPicPr>
        <p:blipFill>
          <a:blip r:embed="rId2"/>
          <a:stretch/>
        </p:blipFill>
        <p:spPr>
          <a:xfrm>
            <a:off x="5302080" y="4043520"/>
            <a:ext cx="3289320" cy="2476440"/>
          </a:xfrm>
          <a:prstGeom prst="rect">
            <a:avLst/>
          </a:prstGeom>
          <a:ln w="0">
            <a:noFill/>
          </a:ln>
        </p:spPr>
      </p:pic>
      <p:sp>
        <p:nvSpPr>
          <p:cNvPr id="90" name="TextBox 5"/>
          <p:cNvSpPr/>
          <p:nvPr/>
        </p:nvSpPr>
        <p:spPr>
          <a:xfrm>
            <a:off x="5439240" y="6519960"/>
            <a:ext cx="25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ews Gothic MT"/>
              </a:rPr>
              <a:t>Stormyscorner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News Gothic MT"/>
              </a:rPr>
              <a:t>Online Predators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News Gothic MT"/>
              </a:rPr>
              <a:t>Recognize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 the difference between cute and creepy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News Gothic MT"/>
              </a:rPr>
              <a:t>Report 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–anyone who asks to meet you in person to the police and www.cybertipline.com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  <p:pic>
        <p:nvPicPr>
          <p:cNvPr id="93" name="Picture 3" descr=""/>
          <p:cNvPicPr/>
          <p:nvPr/>
        </p:nvPicPr>
        <p:blipFill>
          <a:blip r:embed="rId2"/>
          <a:stretch/>
        </p:blipFill>
        <p:spPr>
          <a:xfrm>
            <a:off x="5746680" y="4200480"/>
            <a:ext cx="2844720" cy="2657520"/>
          </a:xfrm>
          <a:prstGeom prst="rect">
            <a:avLst/>
          </a:prstGeom>
          <a:ln w="0">
            <a:noFill/>
          </a:ln>
        </p:spPr>
      </p:pic>
      <p:sp>
        <p:nvSpPr>
          <p:cNvPr id="94" name="TextBox 5"/>
          <p:cNvSpPr/>
          <p:nvPr/>
        </p:nvSpPr>
        <p:spPr>
          <a:xfrm>
            <a:off x="246960" y="6535800"/>
            <a:ext cx="580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ews Gothic MT"/>
              </a:rPr>
              <a:t>istock/_monkeybusinessimages/eduguid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News Gothic MT"/>
              </a:rPr>
              <a:t>Sharing Too Much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News Gothic MT"/>
              </a:rPr>
              <a:t>Avoid TMI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-Don’t post anything too personal or embarrassing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News Gothic MT"/>
              </a:rPr>
              <a:t>Protect your Space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-Use privacy settings, and don’t accept just anyone as a friend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Don’t be that kid who gets suspended for posting something stupid online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5351400" y="4351320"/>
            <a:ext cx="3492720" cy="2324160"/>
          </a:xfrm>
          <a:prstGeom prst="rect">
            <a:avLst/>
          </a:prstGeom>
          <a:ln w="0">
            <a:noFill/>
          </a:ln>
        </p:spPr>
      </p:pic>
      <p:sp>
        <p:nvSpPr>
          <p:cNvPr id="98" name="TextBox 6"/>
          <p:cNvSpPr/>
          <p:nvPr/>
        </p:nvSpPr>
        <p:spPr>
          <a:xfrm>
            <a:off x="958320" y="6313320"/>
            <a:ext cx="388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ids-on-computer/smartschools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News Gothic MT"/>
              </a:rPr>
              <a:t>Trusted Adul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95959"/>
                </a:solidFill>
                <a:latin typeface="News Gothic MT"/>
              </a:rPr>
              <a:t>Tell your parent or guardian what you’re doing online.</a:t>
            </a:r>
            <a:endParaRPr b="0" lang="en-US" sz="4400" spc="-1" strike="noStrike">
              <a:solidFill>
                <a:srgbClr val="595959"/>
              </a:solidFill>
              <a:latin typeface="News Gothic MT"/>
            </a:endParaRPr>
          </a:p>
        </p:txBody>
      </p:sp>
      <p:pic>
        <p:nvPicPr>
          <p:cNvPr id="101" name="Picture 3" descr="images.jpeg"/>
          <p:cNvPicPr/>
          <p:nvPr/>
        </p:nvPicPr>
        <p:blipFill>
          <a:blip r:embed="rId2"/>
          <a:stretch/>
        </p:blipFill>
        <p:spPr>
          <a:xfrm>
            <a:off x="4538520" y="3090960"/>
            <a:ext cx="3048120" cy="2666880"/>
          </a:xfrm>
          <a:prstGeom prst="rect">
            <a:avLst/>
          </a:prstGeom>
          <a:ln w="0">
            <a:noFill/>
          </a:ln>
        </p:spPr>
      </p:pic>
      <p:sp>
        <p:nvSpPr>
          <p:cNvPr id="102" name="TextBox 4"/>
          <p:cNvSpPr/>
          <p:nvPr/>
        </p:nvSpPr>
        <p:spPr>
          <a:xfrm>
            <a:off x="4041000" y="6294600"/>
            <a:ext cx="154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afesof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Resource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National Center for Missing and Exploited Children. (2011) Tip sheet for Internet safety. U.S. Department of Justice, Washington, D.C.: Author. Retrieved April 12, 2012, from http://www.netsmartz.com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2T23:26:07Z</dcterms:created>
  <dc:creator>Richard LaBrecque</dc:creator>
  <dc:description/>
  <dc:language>en-US</dc:language>
  <cp:lastModifiedBy>Richard LaBrecque</cp:lastModifiedBy>
  <dcterms:modified xsi:type="dcterms:W3CDTF">2012-04-13T00:03:56Z</dcterms:modified>
  <cp:revision>10</cp:revision>
  <dc:subject/>
  <dc:title>Internet Safety Information</dc:title>
</cp:coreProperties>
</file>